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5.png" ContentType="image/png"/>
  <Override PartName="/ppt/media/image2.png" ContentType="image/png"/>
  <Override PartName="/ppt/media/image27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BB48-6688-420F-ABE5-33813ACD5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F172-88AE-43FA-A775-6BAC45AC1D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9C06-0073-4FFC-8D49-FE8B7B3343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8544-9676-4B3E-84E0-4766C9DC98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6543-51B9-45F2-A9B9-48635F5921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FC7D-C140-4628-AE64-939A2608B3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 K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C5A7-DB7E-4BD1-9FC0-60F7B3AFE8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8FDE-2053-4415-B379-1190A77C37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641A-DB43-4B06-BBE7-ADA53B066D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E71D-933D-47F5-A3C0-003C81F134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3A2D-0EAC-4F6A-8F88-7628707365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B020-605D-4B5C-9AFE-F2C611BF48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D68C-77B6-48E6-8356-F7A35FBCBE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59A2-690E-45C5-82FD-A830210957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D6F4-9340-4AB6-B63F-C3B105B250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0A4-5181-4F97-9CE9-6EBC34B9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4A4-18DF-4489-B32A-79B8A1EE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436-DF26-4ACA-84F7-EDBABE52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467-56C4-40EC-9E5C-4C6CB385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0BFA-6EDE-400E-8691-3C12E362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2A32-E2F0-4A97-9CDE-ECB264AC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2DB1-5C30-4C17-9362-6CAC8BBD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4B5F-EB6C-4500-A771-55F54AAF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16A0-2F11-4B81-AC25-E1566DDD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081E-7D9A-43D6-BD8F-4C6D56C3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F74A-CEB6-475C-95E1-1A37A78C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644-DD3E-42F8-9B5E-0A875135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FCAA-00A2-4048-931B-24504746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5326-4073-4636-A075-91C16D6A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FA00-2361-4E47-A0CC-9C106A3E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873C-73E2-46D0-B46A-759BC9F8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4D18-2EB5-4ED8-A2E9-B812785F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5B703-BBC0-4AE1-AE64-D1D703AD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0A3B6-1158-4D7F-8C34-B10640A8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2023-FD11-4CD9-9219-8C5CF97A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F498F-23AC-4814-88A3-3C749C7F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64802-2081-453E-8528-1B1B3110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07B-88F4-44A6-AA68-9810A6D7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EE62F-A592-4FD3-BFBE-8AFF1272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09651-881F-4C85-990E-3CF33D56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337FF-A083-4C7C-8775-5DCB1279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C21AE-A7B9-4268-8BDB-F5B89CB0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21BE4-67F7-4437-8348-243907A2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13BF-385C-443C-B4D5-8A169970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99342-0A7B-42D0-84C4-7A53C5BB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2064E-1431-41C5-9EC8-EF0382F0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7FB0A-E1BA-49BE-B72D-17A71504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7A8AF-12CC-4B57-8379-1FD464D6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A1E-4C59-49E6-9025-0E4E85CB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755F4-3796-4824-B227-CDA8B292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1193C-80BA-4315-A01F-4953442A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D286D-DB25-4313-B747-D4B76715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3CE1C-3BC5-49E8-86A6-72198B3D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10C88-9C55-4FAD-ACDC-3DB6DE5E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014F9-272B-4943-8F81-D09A1533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9F898-B358-4CF3-B02C-9FD04E37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99524-149E-42FA-852A-C13299D6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1A085-F251-4F52-9C17-223EA358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47C14-8763-4930-9E6A-9458EB14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002-93FA-4402-B706-D1AA75C2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38CE9-8CD6-43FB-9EEF-D4449C93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C217C-329D-4C1A-918D-5504ED9F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0AA27-AAFF-4E87-8C5B-F546B3F9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D4634-9C67-406F-B43C-E43050C2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DB3CC-E011-49C3-9BBF-BF37D523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6C120-92E5-44D8-9B62-2C428331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C1AF7-8706-40DE-B765-A13DBC43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A8518-9DF8-47C4-8033-2C663AC0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55155-E70F-48E3-BF53-4F33E9B3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20078-E969-40E3-BD5F-150691CC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276-ADCC-453D-A9EB-4C204AE0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DF0B6-8FF3-456D-9898-5615DDC2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9771C-C7F4-497D-9B44-84584F38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149FD-1238-4A79-80E8-7C1CBBDE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B70AC-8742-4AA4-A7FF-2ADCCA21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73F7E-056D-4165-BBDC-22807FD5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C92A5-74EB-4219-BC10-3C4629EA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01C85-8B6B-4211-8082-B1657F65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2C41B-2277-4A49-A4DD-6223B95C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D0531-E59B-4EEE-A606-AA09DE5E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187C4-058C-4849-B4F6-38B15FCC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6C8-EAB7-4706-98E0-C4C443AF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E94D9-5775-463B-9F08-36FC3A36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97F76-D138-468E-B260-6868DC8B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5E48F-2C15-4090-AA6A-50C3B6EC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EDA0B-B171-48ED-8384-C9ECEF05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379B4-0829-4916-96E7-6E8F48BD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C5154-D2FA-4FED-9B54-A98528C5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AB097-C76F-4772-8AA4-95FFC516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26B18-1E6B-4B39-B0FD-38D5538D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D39DF-3C29-44DB-B5D2-CDB37CED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07822-FC89-40CE-808D-74858E1B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71C-5CDD-4718-BA4C-6F9356E3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3C32F-440E-445E-9A5E-F84D9526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D2C2D-9392-4549-A7A9-CCA2DAC7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B88D9-FD2F-4DE0-AB64-749DD795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A2619-157E-4336-8928-C4D08997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0358A-FC7C-4973-A052-644F1B3B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47E-CEAB-4C3F-A3F6-7BE9F24C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CBFE-37C5-4C22-8CD5-AC1623844DE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65B2-291E-4B34-993D-539BFB797570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4F08-C572-4D79-9F41-6ED548960EE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E4E9-D306-4E33-8BF3-933D47DFE1F8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A42C-8E2E-4BAB-A7CC-E67870BE497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11E7-3D58-41AB-97DE-3FA87300761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BEE2-0263-4262-9867-68B0ADFF8F46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9" name="Subtitle 2" descr=""/>
          <p:cNvPicPr/>
          <p:nvPr/>
        </p:nvPicPr>
        <p:blipFill>
          <a:blip r:embed="rId2"/>
          <a:stretch/>
        </p:blipFill>
        <p:spPr>
          <a:xfrm>
            <a:off x="396720" y="2170080"/>
            <a:ext cx="8313840" cy="3859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http://www.worldofstock.com/slides/BTE1563.jpg"/>
          <p:cNvPicPr/>
          <p:nvPr/>
        </p:nvPicPr>
        <p:blipFill>
          <a:blip r:embed="rId3"/>
          <a:stretch/>
        </p:blipFill>
        <p:spPr>
          <a:xfrm>
            <a:off x="1066680" y="914400"/>
            <a:ext cx="47628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http://chipdesignmag.com/images/2010/February-March_2010/FEATURE1_FIG7.jpg"/>
          <p:cNvPicPr/>
          <p:nvPr/>
        </p:nvPicPr>
        <p:blipFill>
          <a:blip r:embed="rId2"/>
          <a:stretch/>
        </p:blipFill>
        <p:spPr>
          <a:xfrm>
            <a:off x="228600" y="1600200"/>
            <a:ext cx="4368960" cy="28954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0" y="14940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3672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arrel Shif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mple design=small are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hift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eft up to 4 bi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laces 0’s in the lower bits after shift occurs = easier to implement arithmetic operation with the shifted resul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335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coder with passgate logic = uses fewer ga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es two inverters in series connected back to the 8:1 mux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Picture 6" descr="Crystal"/>
          <p:cNvPicPr/>
          <p:nvPr/>
        </p:nvPicPr>
        <p:blipFill>
          <a:blip r:embed="rId2"/>
          <a:srcRect l="57779" t="10221" r="0" b="51459"/>
          <a:stretch/>
        </p:blipFill>
        <p:spPr>
          <a:xfrm>
            <a:off x="2133720" y="2819520"/>
            <a:ext cx="4800600" cy="3789360"/>
          </a:xfrm>
          <a:prstGeom prst="rect">
            <a:avLst/>
          </a:prstGeom>
          <a:ln w="0">
            <a:noFill/>
          </a:ln>
        </p:spPr>
      </p:pic>
      <p:sp>
        <p:nvSpPr>
          <p:cNvPr id="341" name="Straight Connector 7"/>
          <p:cNvSpPr/>
          <p:nvPr/>
        </p:nvSpPr>
        <p:spPr>
          <a:xfrm flipV="1">
            <a:off x="5181480" y="3048120"/>
            <a:ext cx="0" cy="2743200"/>
          </a:xfrm>
          <a:prstGeom prst="line">
            <a:avLst/>
          </a:prstGeom>
          <a:ln w="572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Straight Connector 8"/>
          <p:cNvSpPr/>
          <p:nvPr/>
        </p:nvSpPr>
        <p:spPr>
          <a:xfrm>
            <a:off x="2590920" y="3048120"/>
            <a:ext cx="2590560" cy="0"/>
          </a:xfrm>
          <a:prstGeom prst="line">
            <a:avLst/>
          </a:prstGeom>
          <a:ln w="572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traight Connector 10"/>
          <p:cNvSpPr/>
          <p:nvPr/>
        </p:nvSpPr>
        <p:spPr>
          <a:xfrm>
            <a:off x="2590920" y="3048120"/>
            <a:ext cx="0" cy="685800"/>
          </a:xfrm>
          <a:prstGeom prst="line">
            <a:avLst/>
          </a:prstGeom>
          <a:ln w="572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4" name="Straight Arrow Connector 13"/>
          <p:cNvCxnSpPr/>
          <p:nvPr/>
        </p:nvCxnSpPr>
        <p:spPr>
          <a:xfrm>
            <a:off x="2590920" y="3733920"/>
            <a:ext cx="838800" cy="2160"/>
          </a:xfrm>
          <a:prstGeom prst="straightConnector1">
            <a:avLst/>
          </a:prstGeom>
          <a:ln w="57240">
            <a:solidFill>
              <a:srgbClr val="ff248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8 Bit Array Multipli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akes the 8 LSB of the inputs and returns a 16 bit resul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mplemented using And gates, Half-Adders, and Full-Add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-6480" y="450720"/>
            <a:ext cx="1079640" cy="595656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1522440" y="6480"/>
            <a:ext cx="67834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AN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PAS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itially an AND gate with same inpu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witched to Tgate implementatio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2590920" y="1828800"/>
          <a:ext cx="4495680" cy="3325680"/>
        </p:xfrm>
        <a:graphic>
          <a:graphicData uri="http://schemas.openxmlformats.org/drawingml/2006/table">
            <a:tbl>
              <a:tblPr/>
              <a:tblGrid>
                <a:gridCol w="1295280"/>
                <a:gridCol w="3200400"/>
              </a:tblGrid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S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69757e-2 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l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.33949 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ner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248221e-8 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r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13250e-25 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x m x 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-41436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362320" y="533520"/>
            <a:ext cx="4495680" cy="4572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85723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racterist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Techniqu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Practic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op level ALU connec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pera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tr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2736720" y="2432160"/>
            <a:ext cx="37609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534520" cy="65534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6"/>
          <p:cNvSpPr/>
          <p:nvPr/>
        </p:nvSpPr>
        <p:spPr>
          <a:xfrm>
            <a:off x="45720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before  reg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7"/>
          <p:cNvSpPr/>
          <p:nvPr/>
        </p:nvSpPr>
        <p:spPr>
          <a:xfrm>
            <a:off x="457200" y="4572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to all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racterist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Techniqu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Practic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op level ALU connec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pera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tr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ummary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Ques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6840" y="18828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mbedded Digital Signal Processor for PICo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MI 0.5 um technolog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cea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uffered the inputs through 2 series inverte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rove the output through 4 parallel inverte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4" descr="http://www.clemson.edu/ces/departments/ece/images/dream_jobs/circuit.jpg"/>
          <p:cNvPicPr/>
          <p:nvPr/>
        </p:nvPicPr>
        <p:blipFill>
          <a:blip r:embed="rId2"/>
          <a:stretch/>
        </p:blipFill>
        <p:spPr>
          <a:xfrm>
            <a:off x="6019920" y="2743200"/>
            <a:ext cx="2628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6840" y="1371600"/>
            <a:ext cx="4800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romises betwee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rea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lay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ow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decision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cused on delays in add/subtra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Picture 2" descr="http://img.archiexpo.com/images_ae/photo-g/design-hall-mirror-94175.jpg"/>
          <p:cNvPicPr/>
          <p:nvPr/>
        </p:nvPicPr>
        <p:blipFill>
          <a:blip r:embed="rId2"/>
          <a:srcRect l="25891" t="0" r="0" b="0"/>
          <a:stretch/>
        </p:blipFill>
        <p:spPr>
          <a:xfrm>
            <a:off x="5486400" y="1676520"/>
            <a:ext cx="3271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onent Heirarch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using componen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ubcircuits librar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early tested to ensure accurate resul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ean to prevent bugs or erro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lexible for future design modifica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76280" y="268200"/>
            <a:ext cx="8186760" cy="1401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Crystal"/>
          <p:cNvPicPr/>
          <p:nvPr/>
        </p:nvPicPr>
        <p:blipFill>
          <a:blip r:embed="rId2"/>
          <a:stretch/>
        </p:blipFill>
        <p:spPr>
          <a:xfrm>
            <a:off x="1943280" y="1882800"/>
            <a:ext cx="525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Ad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Sub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AN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hift Left Logic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Pas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8b Multipl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2" descr="http://www.ece.ucsb.edu/~parhami/images_folder/digits_arith.jpg"/>
          <p:cNvPicPr/>
          <p:nvPr/>
        </p:nvPicPr>
        <p:blipFill>
          <a:blip r:embed="rId2"/>
          <a:stretch/>
        </p:blipFill>
        <p:spPr>
          <a:xfrm>
            <a:off x="4495680" y="1371600"/>
            <a:ext cx="41626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2"/>
          <a:srcRect l="5319" t="9238" r="3329" b="9238"/>
          <a:stretch/>
        </p:blipFill>
        <p:spPr>
          <a:xfrm>
            <a:off x="2286000" y="1219320"/>
            <a:ext cx="4886280" cy="25146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4"/>
          <p:cNvSpPr/>
          <p:nvPr/>
        </p:nvSpPr>
        <p:spPr>
          <a:xfrm>
            <a:off x="3200400" y="3733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bit Mirror Ad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6" descr="http://img.search.com/thumb/5/5d/4-bit_ripple_carry_adder.svg/500px-4-bit_ripple_carry_adder.svg.png"/>
          <p:cNvPicPr/>
          <p:nvPr/>
        </p:nvPicPr>
        <p:blipFill>
          <a:blip r:embed="rId3"/>
          <a:stretch/>
        </p:blipFill>
        <p:spPr>
          <a:xfrm>
            <a:off x="2362320" y="4191120"/>
            <a:ext cx="4762440" cy="19047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6"/>
          <p:cNvSpPr/>
          <p:nvPr/>
        </p:nvSpPr>
        <p:spPr>
          <a:xfrm>
            <a:off x="342900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pple Carry Ad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mplemented using the same 1 bit full adders that we used with the 16b add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akes 2s complement of input B and adds to input 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verflow detect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3:28:10Z</dcterms:created>
  <dc:creator>Student</dc:creator>
  <dc:description/>
  <dc:language>en-US</dc:language>
  <cp:lastModifiedBy>Manoj</cp:lastModifiedBy>
  <dcterms:modified xsi:type="dcterms:W3CDTF">2010-05-03T06:24:05Z</dcterms:modified>
  <cp:revision>72</cp:revision>
  <dc:subject/>
  <dc:title>Crystal</dc:title>
</cp:coreProperties>
</file>